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F49-0C28-43F8-A497-CAAF594D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329-63B3-472B-B4B5-D5C4227C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697-04A2-432B-84CF-B0EAAEFB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6C5-83F4-4156-9BE1-C44B5953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412-A53D-41C0-A4CA-3C152EFA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C30-2C6B-41EE-9048-66AF510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EB4-89FF-4F3A-8C51-9591366A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008-8139-4DA5-87DC-61AECE98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37A-7081-4687-8E93-67506AE7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6B1-8660-460B-8CD9-65670AE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092-7558-4122-A318-3346440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150-6C76-4026-95C0-E650013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BD6A-8CC1-4AB3-87A0-71CDB46A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ueybobby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as a political activist, Black Panther, and cultural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and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by seale was born in 1936 in Dallas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Grew up in texas, but relcoated to Oakland due to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opped out of high school and joined the Air Force, but was dishonorably discharged after only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AirForce"/>
          <p:cNvPicPr/>
          <p:nvPr/>
        </p:nvPicPr>
        <p:blipFill>
          <a:blip r:embed="rId1"/>
          <a:stretch/>
        </p:blipFill>
        <p:spPr>
          <a:xfrm>
            <a:off x="6095880" y="5105520"/>
            <a:ext cx="1673280" cy="140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elcome_2_Dallas"/>
          <p:cNvPicPr/>
          <p:nvPr/>
        </p:nvPicPr>
        <p:blipFill>
          <a:blip r:embed="rId2"/>
          <a:stretch/>
        </p:blipFill>
        <p:spPr>
          <a:xfrm>
            <a:off x="7238880" y="533520"/>
            <a:ext cx="1676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ing the black pan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age of 25, Seale attended Oakland City College, Joined the Afro-American-Assosiation, and met the man whth whom he co founded the black panthers with, Huey New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, the two would form the black panther party in october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uey"/>
          <p:cNvPicPr/>
          <p:nvPr/>
        </p:nvPicPr>
        <p:blipFill>
          <a:blip r:embed="rId1"/>
          <a:stretch/>
        </p:blipFill>
        <p:spPr>
          <a:xfrm>
            <a:off x="6934320" y="4191120"/>
            <a:ext cx="2019240" cy="236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Emblem%20of%20the%20Black%20Panther%20Party%20of%201966_thumb%5B8%5D"/>
          <p:cNvPicPr/>
          <p:nvPr/>
        </p:nvPicPr>
        <p:blipFill>
          <a:blip r:embed="rId2"/>
          <a:stretch/>
        </p:blipFill>
        <p:spPr>
          <a:xfrm>
            <a:off x="4114800" y="4800600"/>
            <a:ext cx="1438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lack Panther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Panther Party was an african american revolutionary group aimed at giving blacks more power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that Blacks in america were greatly mis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s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Seale’s biggest biggest influence to start the Black Panther Party was a black civil rights activist named Malcom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le was outraged When X was murdered in 1965. therefore, it was a big influence on starting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MalcolmX"/>
          <p:cNvPicPr/>
          <p:nvPr/>
        </p:nvPicPr>
        <p:blipFill>
          <a:blip r:embed="rId1"/>
          <a:stretch/>
        </p:blipFill>
        <p:spPr>
          <a:xfrm>
            <a:off x="7620120" y="304920"/>
            <a:ext cx="1143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Panthers and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panther party was strongly against the Vietnam war in the 1970s because they did not want to support a war that enlisted blacks to fight for america, acountry they believed did not treat them por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63360" y="-136440"/>
            <a:ext cx="739152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il time for Se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8, Seale was sentenced tro four years in prison for outbursts and riots at the democratic national convention in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years later, he was put on trial in New Haven, CT as part of the new haven black pan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leased from prison in 1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ng 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his release from prison in 1972, Seale vowed to be non vio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now 72, and goes to various high school and college campuses speaking about his life and against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2:12:06Z</dcterms:created>
  <dc:creator>Joe Mixie</dc:creator>
  <dc:description/>
  <dc:language>en-US</dc:language>
  <cp:lastModifiedBy>Joe Mixie</cp:lastModifiedBy>
  <dcterms:modified xsi:type="dcterms:W3CDTF">2010-12-20T02:08:33Z</dcterms:modified>
  <cp:revision>45</cp:revision>
  <dc:subject/>
  <dc:title>Bobby Seale</dc:title>
</cp:coreProperties>
</file>